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dt" idx="7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6F5FD-B518-4AC3-9269-C27F376FE5E3}" type="datetime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Le bonheur est VOTRE affaire, son organisation est NOTRE préoccupation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6B788-9E94-4C94-A819-F49DBEC4709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Le bonheur est VOTRE affaire, son organisation est NOTRE préoccupation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13/01/2012</a:t>
            </a:r>
            <a:fld id="{B3F2BF75-F43D-41BE-BA67-74FAB96EFB7E}" type="slidenum">
              <a:rPr b="0" lang="fr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C9736E16-095F-4E90-84BF-B4A650DEB67A}" type="slidenum">
              <a:rPr b="0" lang="fr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Le bonheur est VOTRE affaire, son organisation est NOTRE préoccupation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93B2B-4294-4659-9792-BFF019EAEB6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A00A3-7108-411C-B1ED-3BEDFA7C54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1767F-09CD-4ED3-A397-D74D85B0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2D806-40B4-4050-81DD-77E23890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3E584-BD8A-412C-8425-88AD4F1BBC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12C8C-567B-4BF7-9D1C-3B14EC0AD6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3A274-A1CE-4F03-AA86-0FAB197D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FA8DE-4C4D-40D0-AB7D-E39A0955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2987E-1DCD-40A9-B1EE-C7EF23FE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6719E-68B0-46FC-BC84-32193953B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A977E-1DA9-4ED3-B93D-A59F9C2B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B5B97-570E-43D8-9A20-F1014CBA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42210-7F62-4D75-B735-898D36D5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4AC5C-B0D3-4088-BCE1-E6FFAEE0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13D3D-F7B9-4A1A-8AC1-FFEC343F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856BD-CA08-4457-ADE5-C72113C2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05023-5A2B-4F41-A6E9-0D09E61D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0496D-FA19-4DCA-A662-9B47A794C4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A959-047C-4A98-A923-6E4F8D4809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0DAE-8104-404B-BBC9-5D8B750D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325E-B86E-41F3-B42D-D1A217BD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317D-AA96-4871-851A-9D1A532A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E381-7583-4A8F-9C3B-7CAD83AAB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176D6-261B-489B-B6AA-084D1FA4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A0DF-C19B-4B0E-862B-2F36C6D0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9864-CCAF-4229-9AC8-7732BF32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AD2D-717E-4FC6-95BA-31A32447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8093-D99C-4147-A918-F79F2B70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0E68-B3AB-42D5-8926-C6D93882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6EDA-C78F-458B-91D8-3D6CD99D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3402-B5DC-4A2C-A50F-9F95669655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033DB-8D18-45C3-A11A-C61EC91F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34FA1-A5A1-43E8-BE8C-9FA17766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BD548-3109-4058-9AAE-4995AB29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2FCAD-A3A4-4211-A0C8-2021E594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B43F5-C14B-4225-B49E-9898601D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736BF-0067-4A9F-969D-80B57BE4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cap="sq" w="38160">
            <a:solidFill>
              <a:srgbClr val="ebebe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vert="eaVer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B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3D971-0779-468B-9B74-C57317B18BFB}" type="datetime"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cap="sq"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bebe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cap="sq"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B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19995-7719-438C-B5F2-464E2C8ADF1B}" type="slidenum"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cap="sq" w="38160">
            <a:solidFill>
              <a:srgbClr val="ebebe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cap="sq"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bebe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cap="sq"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bebe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2f2f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9f9f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cap="sq" w="57240">
            <a:solidFill>
              <a:srgbClr val="ebebe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cap="sq" w="57240">
            <a:solidFill>
              <a:srgbClr val="f9f9f9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cap="sq"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cap="sq" w="28440">
            <a:solidFill>
              <a:srgbClr val="ebebe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cap="sq" w="936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cap="sq"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bebe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3"/>
          </p:nvPr>
        </p:nvSpPr>
        <p:spPr>
          <a:xfrm>
            <a:off x="9097560" y="222120"/>
            <a:ext cx="228276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BE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49021-3113-4419-A966-042BA25CBA37}" type="datetime">
              <a:rPr b="0" lang="fr-BE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707976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4"/>
          </p:nvPr>
        </p:nvSpPr>
        <p:spPr>
          <a:xfrm>
            <a:off x="1325160" y="4928760"/>
            <a:ext cx="6066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fr-BE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284CE73-15B9-4EBA-A08A-D4BF25F6D335}" type="slidenum">
              <a:rPr b="1" lang="fr-BE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cap="sq" w="38160">
            <a:solidFill>
              <a:srgbClr val="ebebe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cap="sq"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bebe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cap="sq"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5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BE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7FEE5-68DD-4086-A013-52A186E694F4}" type="datetime">
              <a:rPr b="0" lang="fr-BE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6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fr-BE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E7BBBA4-7544-42FC-A1B6-E046C76B9920}" type="slidenum">
              <a:rPr b="1" lang="fr-BE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1484280"/>
            <a:ext cx="9144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6000" spc="-1" strike="noStrike">
                <a:solidFill>
                  <a:srgbClr val="000000"/>
                </a:solidFill>
                <a:latin typeface="Cambria"/>
              </a:rPr>
              <a:t>UrbanEvol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Cambria"/>
              </a:rPr>
              <a:t>Le bonheur est VOTRE affair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Cambria"/>
              </a:rPr>
              <a:t>son organisation est NOTRE préoccupation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02040" y="60040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ié de Carit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UrbanEvolution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DC project 201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3000" spc="-1" strike="noStrike">
                <a:solidFill>
                  <a:srgbClr val="ffffff"/>
                </a:solidFill>
                <a:latin typeface="Century Schoolbook"/>
              </a:rPr>
              <a:t>P</a:t>
            </a:r>
            <a:r>
              <a:rPr b="0" lang="fr-BE" sz="3600" spc="-1" strike="noStrike">
                <a:solidFill>
                  <a:srgbClr val="ffffff"/>
                </a:solidFill>
                <a:latin typeface="Century Schoolbook"/>
              </a:rPr>
              <a:t>ROJ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71640" y="1268280"/>
            <a:ext cx="7788240" cy="7430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Cambria"/>
              </a:rPr>
              <a:t>UrbanEvolution.be est un concept qui provient de 3 constats et qui vise 3 axes de solutions.</a:t>
            </a: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2349360"/>
            <a:ext cx="5481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mbria"/>
              </a:rPr>
              <a:t>Trois constats ou facteurs observé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mbria"/>
              </a:rPr>
              <a:t>1) Les habitations sont très généralement trop énergivores. Agir est indispens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mbria"/>
              </a:rPr>
              <a:t>2) L’espace et l’environnement pourraient être mieux partagés entre les personnes en accentuant l’échange intergénérationnel sans promiscuité et en offrant des services adaptés et en combattant l’isolement 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mbria"/>
              </a:rPr>
              <a:t>3) La question financière doit être posée pour garantir les bons choix en fonction du profil des habitants &amp; le passage futur et réfléchi des moyens et des bien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71640" y="7316640"/>
            <a:ext cx="54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03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mbria"/>
              </a:rPr>
              <a:t>3 constats 3 Solutions 1Concept = 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9BB99-7375-4050-953D-F4EFF6ADC59F}" type="slidenum">
              <a:rPr b="1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02040" y="60040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ié de Carit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UrbanEvolution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DC project 201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39640" y="0"/>
            <a:ext cx="82296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3000" spc="-1" strike="noStrike">
                <a:solidFill>
                  <a:srgbClr val="ffffff"/>
                </a:solidFill>
                <a:latin typeface="Century Schoolbook"/>
              </a:rPr>
              <a:t>PROJ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1" lang="fr-BE" sz="2000" spc="-1" strike="noStrike">
                <a:solidFill>
                  <a:srgbClr val="000000"/>
                </a:solidFill>
                <a:latin typeface="Cambria"/>
              </a:rPr>
              <a:t>3 axes de solution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69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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Cambria"/>
              </a:rPr>
              <a:t>1) Nous réalisons des investissements en tenant compte des nouvelles options énergétiques diversifiées comme le recommandent d’urgence les études européennes et le bon sens de tous les aîné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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Cambria"/>
              </a:rPr>
              <a:t>2) Nous révisons les lieux d’habitations en fonction des besoins réels des personnes. Optimalisons le bien-être et l’environnement, ensembl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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Cambria"/>
              </a:rPr>
              <a:t>3) Nous adaptons l’approche financière par de nouvelles formules favorisant la mixité intergénérationnelle, et nous engageons les familles dans un investissement temporel ou intemporel suivant les form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03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3 constats 3 Solutions 1Concept = 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81D4D-DD82-4CEF-B666-24546472F57D}" type="slidenum">
              <a:rPr b="1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802040" y="60040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ié de Carit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UrbanEvolution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DC project 201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68360" y="111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44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0" lang="fr-BE" sz="3600" spc="-1" strike="noStrike">
                <a:solidFill>
                  <a:srgbClr val="ffffff"/>
                </a:solidFill>
                <a:latin typeface="Calibri"/>
              </a:rPr>
              <a:t>ROJ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4360" y="1317600"/>
            <a:ext cx="7788240" cy="3826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entury Schoolbook"/>
              </a:rPr>
              <a:t>P</a:t>
            </a:r>
            <a:r>
              <a:rPr b="1" lang="fr-FR" sz="1600" spc="-1" strike="noStrike">
                <a:solidFill>
                  <a:srgbClr val="ffffff"/>
                </a:solidFill>
                <a:latin typeface="Century Schoolbook"/>
              </a:rPr>
              <a:t>OURQUOI</a:t>
            </a:r>
            <a:r>
              <a:rPr b="1" lang="fr-FR" sz="2000" spc="-1" strike="noStrike">
                <a:solidFill>
                  <a:srgbClr val="ffffff"/>
                </a:solidFill>
                <a:latin typeface="Century Schoolbook"/>
              </a:rPr>
              <a:t> ? L’espace (hab.+ envir.) et l’organisation sociét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58920" y="1700280"/>
            <a:ext cx="732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libri"/>
              </a:rPr>
              <a:t>Environnement ETUDIE par des passionnés, jardins, écologie, économie et en cherchant le côté « cocoon » dans toute habi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libri"/>
              </a:rPr>
              <a:t>Stabilité pour éviter un changement de vie trop rad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libri"/>
              </a:rPr>
              <a:t>Côté social par le partage et le dialogue, bénévolat et activités indépend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libri"/>
              </a:rPr>
              <a:t>Sentiment de sécurité garanti par une juste promiscuité dans un ECO quartier ou une ECO propriét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2600">
              <a:lnSpc>
                <a:spcPct val="100000"/>
              </a:lnSpc>
              <a:tabLst>
                <a:tab algn="l" pos="0"/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24360" y="4724280"/>
            <a:ext cx="1584360" cy="72072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dddddd"/>
          </a:solidFill>
          <a:ln cap="sq"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564000" y="3645000"/>
            <a:ext cx="1800000" cy="10555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476360" y="4869000"/>
            <a:ext cx="1933560" cy="14094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5651640" y="4292640"/>
            <a:ext cx="1944720" cy="1079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303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mbria"/>
              </a:rPr>
              <a:t>Gérer le changement et l’environn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D34E0-B338-4AEB-B6BB-E958A7CCD170}" type="slidenum">
              <a:rPr b="1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02040" y="60040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ié de Carit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UrbanEvolution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DC project 201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900000" y="1268280"/>
            <a:ext cx="2448000" cy="1656000"/>
          </a:xfrm>
          <a:prstGeom prst="rect">
            <a:avLst/>
          </a:prstGeom>
          <a:solidFill>
            <a:srgbClr val="969696"/>
          </a:solidFill>
          <a:ln cap="sq" w="25560">
            <a:solidFill>
              <a:srgbClr val="6d6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entury Schoolbook"/>
              </a:rPr>
              <a:t>Dynamiques et créat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00720" y="1239840"/>
            <a:ext cx="2448000" cy="1657440"/>
          </a:xfrm>
          <a:prstGeom prst="rect">
            <a:avLst/>
          </a:prstGeom>
          <a:solidFill>
            <a:srgbClr val="4d4d4d"/>
          </a:solidFill>
          <a:ln cap="sq" w="255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entury Schoolbook"/>
              </a:rPr>
              <a:t>Patience, ouverture et </a:t>
            </a:r>
            <a:r>
              <a:rPr b="0" lang="fr-BE" sz="2400" spc="-1" strike="noStrike">
                <a:solidFill>
                  <a:srgbClr val="ffffff"/>
                </a:solidFill>
                <a:latin typeface="Century Schoolbook"/>
              </a:rPr>
              <a:t>multicultur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635280" y="3022560"/>
            <a:ext cx="2449440" cy="1655640"/>
          </a:xfrm>
          <a:prstGeom prst="rect">
            <a:avLst/>
          </a:prstGeom>
          <a:solidFill>
            <a:srgbClr val="b2b2b2"/>
          </a:solidFill>
          <a:ln cap="sq"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Century Schoolbook"/>
              </a:rPr>
              <a:t>Soucieux de l’avenir des enfants, parents et grands-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00000" y="4797360"/>
            <a:ext cx="2448000" cy="1656000"/>
          </a:xfrm>
          <a:prstGeom prst="rect">
            <a:avLst/>
          </a:prstGeom>
          <a:solidFill>
            <a:srgbClr val="4d4d4d"/>
          </a:solidFill>
          <a:ln cap="sq" w="255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Century Schoolbook"/>
              </a:rPr>
              <a:t>Expériences de leadership et de mise en place de proj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00720" y="4768920"/>
            <a:ext cx="2448000" cy="1655640"/>
          </a:xfrm>
          <a:prstGeom prst="rect">
            <a:avLst/>
          </a:prstGeom>
          <a:solidFill>
            <a:srgbClr val="969696"/>
          </a:solidFill>
          <a:ln cap="sq" w="25560">
            <a:solidFill>
              <a:srgbClr val="6d6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Century Schoolbook"/>
              </a:rPr>
              <a:t>Responsables et impliq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rcRect l="0" t="22391" r="0" b="0"/>
          <a:stretch/>
        </p:blipFill>
        <p:spPr>
          <a:xfrm>
            <a:off x="3635280" y="1268280"/>
            <a:ext cx="2448000" cy="1656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895320" y="3017880"/>
            <a:ext cx="2457360" cy="16462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rcRect l="0" t="1553" r="0" b="8478"/>
          <a:stretch/>
        </p:blipFill>
        <p:spPr>
          <a:xfrm>
            <a:off x="3819600" y="4800600"/>
            <a:ext cx="2081160" cy="16574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6291360" y="2992320"/>
            <a:ext cx="2462040" cy="16718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0" y="303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mbria"/>
              </a:rPr>
              <a:t>Responsabilité sociétale et Développement dur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4DDD2-ED56-4F67-B7D4-0957907582E1}" type="slidenum">
              <a:rPr b="1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02040" y="60040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ié de Carit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UrbanEvolution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DC project 201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Century Schoolbook"/>
              </a:rPr>
              <a:t>LES ESPACES VARIENT EN FONCTION DES BESOINS DES HABITANTS, DE LEURS EXIGENCES ET OCCUPATIONS. SEULE CONSTANTE: TROUVER LE BIEN-ÊTRE DANS LA SÉCURITÉ D’ÊTRE CHEZ SOI, ASSISTÉ SI NÉCESSAIRE.</a:t>
            </a:r>
            <a:r>
              <a:rPr b="0" lang="fr-BE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2543040" cy="1800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203640" y="1844640"/>
            <a:ext cx="2652480" cy="16477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5940360" y="1989000"/>
            <a:ext cx="2486160" cy="18385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324000" y="3429000"/>
            <a:ext cx="2809800" cy="16286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5940360" y="386064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6"/>
          <a:stretch/>
        </p:blipFill>
        <p:spPr>
          <a:xfrm>
            <a:off x="3276720" y="3500280"/>
            <a:ext cx="2447640" cy="1371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7"/>
          <a:stretch/>
        </p:blipFill>
        <p:spPr>
          <a:xfrm>
            <a:off x="3492360" y="4941720"/>
            <a:ext cx="2087640" cy="15670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CA49A-B783-421F-9893-66D1FBA9F113}" type="slidenum">
              <a:rPr b="1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802040" y="60040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ié de Carit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UrbanEvolution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DC project 201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547640" y="2421000"/>
            <a:ext cx="75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mbria"/>
              </a:rPr>
              <a:t>Merci pour votre att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F6761-B7DD-4B8D-984A-BC431C4A28E6}" type="slidenum">
              <a:rPr b="1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02040" y="60040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ié de Carit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UrbanEvolution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DC project 201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52280" y="2560680"/>
            <a:ext cx="4157640" cy="70833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3191040" cy="24494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5940360" y="0"/>
            <a:ext cx="1714680" cy="12859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3419640" y="1890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5"/>
          <a:stretch/>
        </p:blipFill>
        <p:spPr>
          <a:xfrm>
            <a:off x="7524720" y="2635200"/>
            <a:ext cx="1476360" cy="1103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/>
            </a:outerShdw>
          </a:effectLst>
        </p:spPr>
      </p:pic>
      <p:pic>
        <p:nvPicPr>
          <p:cNvPr id="272" name="" descr=""/>
          <p:cNvPicPr/>
          <p:nvPr/>
        </p:nvPicPr>
        <p:blipFill>
          <a:blip r:embed="rId6"/>
          <a:stretch/>
        </p:blipFill>
        <p:spPr>
          <a:xfrm>
            <a:off x="7740720" y="260280"/>
            <a:ext cx="1238040" cy="16574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7"/>
          <a:stretch/>
        </p:blipFill>
        <p:spPr>
          <a:xfrm>
            <a:off x="6227640" y="1484280"/>
            <a:ext cx="1441440" cy="10796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B8870-E226-482D-8AA0-18D8F1CC6AB5}" type="slidenum">
              <a:rPr b="1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20880000">
            <a:off x="4354560" y="42940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Urban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Le bonheur est VOTRE affai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son organisation est NOTRE préoccupation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303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mbria"/>
              </a:rPr>
              <a:t>PLAN DE LA PRÉ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1413000"/>
            <a:ext cx="4824360" cy="50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Cambria"/>
              </a:rPr>
              <a:t>Présentation Urban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Cambria"/>
                <a:ea typeface="Microsoft YaHei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Cambria"/>
                <a:ea typeface="Microsoft YaHei"/>
              </a:rPr>
              <a:t>Quoi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Cambria"/>
                <a:ea typeface="Microsoft YaHei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Cambria"/>
                <a:ea typeface="Microsoft YaHei"/>
              </a:rPr>
              <a:t>Qui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Cambria"/>
                <a:ea typeface="Microsoft YaHei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Cambria"/>
                <a:ea typeface="Microsoft YaHei"/>
              </a:rPr>
              <a:t>Pourquoi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Cambria"/>
                <a:ea typeface="Microsoft YaHei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Cambria"/>
                <a:ea typeface="Microsoft YaHei"/>
              </a:rPr>
              <a:t>Comment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Cambria"/>
                <a:ea typeface="Microsoft YaHei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Cambria"/>
                <a:ea typeface="Microsoft YaHei"/>
              </a:rPr>
              <a:t>Quand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BE" sz="2000" spc="-1" strike="noStrike">
                <a:solidFill>
                  <a:srgbClr val="000000"/>
                </a:solidFill>
                <a:latin typeface="Cambria"/>
              </a:rPr>
              <a:t>PRINCIPES 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Cambria"/>
              </a:rPr>
              <a:t>Premier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Cambria"/>
              </a:rPr>
              <a:t>Besoins financ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C7720-35F4-4FBF-8EB4-B795BB5E2944}" type="slidenum">
              <a:rPr b="1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02040" y="60040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ié de Carit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UrbanEvolution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DC project 201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86200" y="2914560"/>
            <a:ext cx="137160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2914560"/>
            <a:ext cx="137160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3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mbria"/>
              </a:rPr>
              <a:t>PRÉSENTATION URBAN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1B458-6A24-49D5-A811-21E72C570B03}" type="slidenum">
              <a:rPr b="1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-6480" y="1109520"/>
            <a:ext cx="9156960" cy="5284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802040" y="60040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ié de Carit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UrbanEvolution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DC project 201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303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mbria"/>
              </a:rPr>
              <a:t>PRÉSENTATION URBAN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981000" y="1249200"/>
            <a:ext cx="5559480" cy="35672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AF90F0-A24F-4676-8213-714373120BEF}" type="slidenum">
              <a:rPr b="1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51280" y="1916280"/>
            <a:ext cx="475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Cambria"/>
              </a:rPr>
              <a:t>Une VISION générale à M&amp;LT sur l'habitat de standing</a:t>
            </a: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Evolution des </a:t>
            </a:r>
            <a:r>
              <a:rPr b="0" lang="fr-BE" sz="1800" spc="-1" strike="noStrike" u="sng">
                <a:solidFill>
                  <a:srgbClr val="000000"/>
                </a:solidFill>
                <a:uFillTx/>
                <a:latin typeface="Cambria"/>
              </a:rPr>
              <a:t>besoins </a:t>
            </a: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(en terme d’espaces, de sports, loisirs, activit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 u="sng">
                <a:solidFill>
                  <a:srgbClr val="000000"/>
                </a:solidFill>
                <a:uFillTx/>
                <a:latin typeface="Cambria"/>
              </a:rPr>
              <a:t>Renouveau</a:t>
            </a: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 des types d'habitats pour les 50-80 ans, de type plus compact et multi- générationnel, avec une attention aux choix ECO (écologique et économi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Evolution de la </a:t>
            </a:r>
            <a:r>
              <a:rPr b="0" lang="fr-BE" sz="1800" spc="-1" strike="noStrike" u="sng">
                <a:solidFill>
                  <a:srgbClr val="000000"/>
                </a:solidFill>
                <a:uFillTx/>
                <a:latin typeface="Cambria"/>
              </a:rPr>
              <a:t>mobilité (</a:t>
            </a: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en terme de besoins, capacité fin.&amp; Phys., temps et lieu)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&gt;2 voire 3 résidences à différents endroi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en fonction des périodes de l'anné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la mobilité (et Home work) étant de plus en plus aisée, même pour les "actifs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02040" y="60040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ié de Carit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UrbanEvolution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DC project 201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303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mbria"/>
              </a:rPr>
              <a:t>PRÉSENTATION URBAN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981000" y="1249200"/>
            <a:ext cx="5559480" cy="35672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52C14-10F5-4D8F-8589-19C755A58337}" type="slidenum">
              <a:rPr b="1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51280" y="1916280"/>
            <a:ext cx="475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Cambria"/>
              </a:rPr>
              <a:t>Le MARCHE</a:t>
            </a: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Une génération « babyboomer » consciente que vivre dans un espace trop grand, énergivore, sans soleil et sans penser à l’avenir proche de ses enfants est une des causes de la crise. Investir dans l’aven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Une réflexion et des sol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Un résultat avec rendement sur investissement de 4 à 6 % qui serait digne du secteur en place ° avec des Investisseurs-Locataires exigeants, mais conscient que le bonheur organisé est à un prix qu'ils veulent bien pay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° voir études européennes et articles L'Echo Mon argent sur les Sicaf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02040" y="60040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ié de Carit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UrbanEvolution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DC project 201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303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mbria"/>
              </a:rPr>
              <a:t>PRÉSENTATION URBAN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-981000" y="1249200"/>
            <a:ext cx="5559480" cy="35672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13F1D-21F0-400A-9FBF-135FA2A21612}" type="slidenum">
              <a:rPr b="1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51280" y="1916280"/>
            <a:ext cx="47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Cambria"/>
              </a:rPr>
              <a:t>La Mise en place de solutions financières</a:t>
            </a: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&gt; Rénovation &amp; constructions nouvelles adaptées. Services liés et à la ca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&gt; Emission de Certificats immobiliers et Obligations, convertibles éventuellement en sicafi, en fonction des clientèles visées, étapes par éta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02040" y="60040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ié de Carit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UrbanEvolution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DC project 201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303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mbria"/>
              </a:rPr>
              <a:t>PRÉSENTATION URBAN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-981000" y="1249200"/>
            <a:ext cx="5559480" cy="35672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D56E2-CAF0-4594-9BA5-CB1BDBBE6E9B}" type="slidenum">
              <a:rPr b="1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51280" y="1916280"/>
            <a:ext cx="475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Cambria"/>
              </a:rPr>
              <a:t>La Conjonction de compétences et volonté de différents Acteurs</a:t>
            </a: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 en Belgique(Opérateurs ECOMANAGERS, Architectes, Entrepreneurs, Constructeurs, MO, Financi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Et d'acteurs </a:t>
            </a:r>
            <a:r>
              <a:rPr b="1" lang="fr-BE" sz="1800" spc="-1" strike="noStrike" u="sng">
                <a:solidFill>
                  <a:srgbClr val="000000"/>
                </a:solidFill>
                <a:uFillTx/>
                <a:latin typeface="Cambria"/>
              </a:rPr>
              <a:t>européens</a:t>
            </a: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 (Pays de l'est, construction durables  Eco-qualit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2040" y="60040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ié de Carit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UrbanEvolution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DC project 201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303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mbria"/>
              </a:rPr>
              <a:t>PRÉSENTATION URBAN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-981000" y="1249200"/>
            <a:ext cx="5559480" cy="35672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E5080-8516-498F-B791-06C6BC9F15E7}" type="slidenum">
              <a:rPr b="1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51280" y="2421000"/>
            <a:ext cx="475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ès l'établissement des principaux acteurs choisis pour leurs compétences, leurs ambitions, leurs capacité à définir et à remplir le rôle qui leur revient, défini avec le Project Builder, MO, DDC 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02040" y="60040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ié de Carit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UrbanEvolution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DC project 201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mbria"/>
              </a:rPr>
              <a:t>PRINCIPES 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E093D-9F11-4A14-A8F4-53F4D8F85A9C}" type="slidenum">
              <a:rPr b="1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08000" y="1700280"/>
            <a:ext cx="619308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 u="sng">
                <a:solidFill>
                  <a:srgbClr val="000000"/>
                </a:solidFill>
                <a:uFillTx/>
                <a:latin typeface="Arial"/>
              </a:rPr>
              <a:t>Principes de fonctionnement du concept UrbanEvolu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A. Les projets sont de </a:t>
            </a:r>
            <a:r>
              <a:rPr b="0" lang="fr-BE" sz="1400" spc="-1" strike="noStrike" u="sng">
                <a:solidFill>
                  <a:srgbClr val="000000"/>
                </a:solidFill>
                <a:uFillTx/>
                <a:latin typeface="Arial"/>
              </a:rPr>
              <a:t>tailles différentes</a:t>
            </a: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, en fonction des opportunités de regroupement d’habitations et de services de proximité, le tout obligatoirement sous l’égide du princip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1 ECO-quartier(propriété), 1 propriétaire-organisateur Multiples Obligataires-Locataires,  Multiples services (Entretiens-Sports-loisirs-cattering-salles communes-bénévolat respons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B. Les NOUVEAUX Obligataires peuvent </a:t>
            </a:r>
            <a:r>
              <a:rPr b="0" lang="fr-BE" sz="1400" spc="-1" strike="noStrike" u="sng">
                <a:solidFill>
                  <a:srgbClr val="000000"/>
                </a:solidFill>
                <a:uFillTx/>
                <a:latin typeface="Arial"/>
              </a:rPr>
              <a:t>habiter prioritairement un ECO-Q</a:t>
            </a: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 dans l’attente de la rénovation de « leur » ECO-Q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C. Le RESPECT des aspirations est analysé en combattant l’ISOLE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Les personnes vivant seules ou sans enfants souhaitent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fr-BE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Continuer à vivre proche d’amis ou d’espaces de vie partagés aussi avec d’autres génér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fr-BE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Rester indépendants tout en développant un contact social et un esprit d’entrai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fr-BE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Exercer leurs loisirs avec des personnes aux mêmes affinités et activité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fr-BE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Garder la passion de vivre et de partager connaissances, loisirs, esprit sportif et philosophique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02040" y="60040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ié de Carit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UrbanEvolution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DC project 201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4:44:53Z</dcterms:created>
  <dc:creator>Ysa</dc:creator>
  <dc:description/>
  <dc:language>en-US</dc:language>
  <cp:lastModifiedBy/>
  <dcterms:modified xsi:type="dcterms:W3CDTF">2015-02-23T11:16:28Z</dcterms:modified>
  <cp:revision>108</cp:revision>
  <dc:subject/>
  <dc:title>Equi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ReviewCycleID">
    <vt:r8>565095883</vt:r8>
  </property>
  <property fmtid="{D5CDD505-2E9C-101B-9397-08002B2CF9AE}" pid="3" name="_ReviewingToolsShownOnce">
    <vt:lpwstr/>
  </property>
</Properties>
</file>