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4.png" ContentType="image/png"/>
  <Override PartName="/ppt/media/image3.png" ContentType="image/png"/>
  <Override PartName="/ppt/media/image17.jpeg" ContentType="image/jpeg"/>
  <Override PartName="/ppt/media/image9.jpeg" ContentType="image/jpeg"/>
  <Override PartName="/ppt/media/image27.jpeg" ContentType="image/jpeg"/>
  <Override PartName="/ppt/media/image26.jpeg" ContentType="image/jpeg"/>
  <Override PartName="/ppt/media/image1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dt" idx="7"/>
          </p:nvPr>
        </p:nvSpPr>
        <p:spPr>
          <a:xfrm>
            <a:off x="3884760" y="-36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23F764-5B9E-4421-B55E-526EA923A31C}" type="datetime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ldImg"/>
          </p:nvPr>
        </p:nvSpPr>
        <p:spPr>
          <a:xfrm>
            <a:off x="1142640" y="685800"/>
            <a:ext cx="4568760" cy="34257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8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Le bonheur est VOTRE affaire, son organisation est NOTRE préoccupation 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9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8D227D-FCFB-4716-AC82-537CD181C034}" type="slidenum">
              <a:rPr b="0" lang="fr-F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Le bonheur est VOTRE affaire, son organisation est NOTRE préoccupation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Calibri"/>
              </a:rPr>
              <a:t>13/01/2012</a:t>
            </a:r>
            <a:fld id="{79CF3C89-807E-4F08-AA33-4F02A485073E}" type="slidenum">
              <a:rPr b="0" lang="fr-B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fld id="{022BBB84-04D5-4066-B94F-38AD0FD00424}" type="slidenum">
              <a:rPr b="0" lang="fr-B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200" spc="-1" strike="noStrike">
                <a:solidFill>
                  <a:srgbClr val="000000"/>
                </a:solidFill>
                <a:latin typeface="Arial"/>
              </a:rPr>
              <a:t>Le bonheur est VOTRE affaire, son organisation est NOTRE préoccupation 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D787A4-B466-4AAC-9685-F9BA1866918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"/>
          <p:cNvSpPr/>
          <p:nvPr/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A700D-8E15-4D1F-A688-7EA917132D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D32CE-7920-4B63-872A-BF5938B33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F5AF5-14FC-48B4-9A38-3C4DBCCFC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98080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50476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684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298080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50476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7A6CB9-C023-40E7-9A18-491F3CB7EB4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9FB769C-9F33-4F88-95C8-AC9A3384EF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9B04E0-A87F-4826-9596-1702F1255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1C6AE0-C336-4BBA-A00D-AE6EFC507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560A69-8011-4D2A-86EC-6F497B081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28D3D2-4702-4416-BF3F-9BFA87603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4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ADC432-B1AA-4EC7-92CB-66B0BC1D1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D518ED-FEDD-4738-A27F-54052527D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A63FE2-EC75-4F1D-8838-004937D7E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EAA70E-D90E-4E1E-AF51-43C45696D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E07DF5-2CF2-4639-9502-E14A95F6D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BB810D-8E6A-464C-B8AF-10E8B98BB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F6CE92-6019-4C68-A16E-6D3355DBD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298080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50476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684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298080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550476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1C819E-3049-4FD7-A3B2-94115601BFD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50522-1283-40F9-A3E7-EF3CE8D1FC0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5C837-3E43-46C4-869B-D41C6AE59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C1B31-517F-40F6-9CC6-9B0B18BD4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039EC-8D49-4679-A93D-BE5655DA4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4A33F-EEB2-49C9-8619-E82230789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B9882-2ECB-48C6-8857-5825E8892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4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0804D-450A-4EDD-A2EC-DCF5E6003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4B576-C630-45D9-9729-F7E846EEF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6845B-9A99-418F-87FB-C71E091FE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A21A1-4B90-469C-BDB8-8AAABA2D4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04A34-C67E-4815-9B14-BF12C280B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7894E-D81D-4095-85B6-0BF25A16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98080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504760" y="159984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684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98080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5504760" y="4143960"/>
            <a:ext cx="240336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B2348-4DF5-4B7D-ACA6-D2065D3F99F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D917B-B4B4-483C-8279-F26050B70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15279-5098-488E-936A-BA4B7A69A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7464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89E83-D595-46EF-B5DA-6247E1510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8D73B-2C84-46FC-AD93-7197ED1C7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281840" y="414396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A18836-9AB8-4364-999A-16F3A4FE0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1840" y="1599840"/>
            <a:ext cx="364248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143960"/>
            <a:ext cx="7464600" cy="232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567142-9756-4F45-8B3B-ADFFFE0E8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cap="sq" w="38160">
            <a:solidFill>
              <a:srgbClr val="ebebe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786880" y="267840"/>
            <a:ext cx="20080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vert="eaVer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B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9BB7D9-5DE7-49D0-8F3A-4B5C2F75AFE3}" type="datetime"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 rot="5400000">
            <a:off x="699300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cap="sq" w="57240">
            <a:solidFill>
              <a:srgbClr val="ebe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cap="sq"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ebebe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cap="sq"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8129160" y="5733720"/>
            <a:ext cx="60660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BE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01BCF1-05E8-40AE-9693-C5CE6B0682C8}" type="slidenum">
              <a:rPr b="0" lang="fr-BE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cap="sq" w="38160">
            <a:solidFill>
              <a:srgbClr val="ebebe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cap="sq" w="57240">
            <a:solidFill>
              <a:srgbClr val="ebe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cap="sq"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ebebe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cap="sq"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ebebeb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2f2f2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2f2f2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9f9f9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cap="sq" w="57240">
            <a:solidFill>
              <a:srgbClr val="ebebeb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cap="sq" w="57240">
            <a:solidFill>
              <a:srgbClr val="f9f9f9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cap="sq" w="57240">
            <a:solidFill>
              <a:srgbClr val="ebe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cap="sq" w="28440">
            <a:solidFill>
              <a:srgbClr val="ebebeb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cap="sq" w="9360">
            <a:solidFill>
              <a:srgbClr val="ebe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13760" y="0"/>
            <a:ext cx="1800" cy="6858000"/>
          </a:xfrm>
          <a:prstGeom prst="line">
            <a:avLst/>
          </a:prstGeom>
          <a:ln cap="sq" w="57240">
            <a:solidFill>
              <a:srgbClr val="ebe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ebebeb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3"/>
          </p:nvPr>
        </p:nvSpPr>
        <p:spPr>
          <a:xfrm>
            <a:off x="9097560" y="222120"/>
            <a:ext cx="228276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BE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9171A7-64AC-4F8B-9015-1F5E5C331B47}" type="datetime">
              <a:rPr b="0" lang="fr-BE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5400000">
            <a:off x="707976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sldNum" idx="4"/>
          </p:nvPr>
        </p:nvSpPr>
        <p:spPr>
          <a:xfrm>
            <a:off x="1325160" y="4928760"/>
            <a:ext cx="6066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fr-BE" sz="14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2A960EB2-2FE5-4E0A-9AD7-1E9F3ADA798F}" type="slidenum">
              <a:rPr b="1" lang="fr-BE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cap="sq" w="38160">
            <a:solidFill>
              <a:srgbClr val="ebebeb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cap="sq" w="57240">
            <a:solidFill>
              <a:srgbClr val="ebeb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cap="sq" w="1908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ebebeb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cap="sq"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4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4600" cy="487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5"/>
          </p:nvPr>
        </p:nvSpPr>
        <p:spPr>
          <a:xfrm>
            <a:off x="8786880" y="267840"/>
            <a:ext cx="20080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BE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C302CF-893B-414F-B266-138F0CFF398E}" type="datetime">
              <a:rPr b="0" lang="fr-BE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sldNum" idx="6"/>
          </p:nvPr>
        </p:nvSpPr>
        <p:spPr>
          <a:xfrm>
            <a:off x="8129160" y="5733720"/>
            <a:ext cx="606600" cy="51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1" lang="fr-BE" sz="1400" spc="-1" strike="noStrike">
                <a:solidFill>
                  <a:srgbClr val="ffffff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A6AC4C50-43F8-418A-88ED-93A99030C4DA}" type="slidenum">
              <a:rPr b="1" lang="fr-BE" sz="1400" spc="-1" strike="noStrike">
                <a:solidFill>
                  <a:srgbClr val="ffffff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699300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25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27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1484280"/>
            <a:ext cx="91440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6000" spc="-1" strike="noStrike">
                <a:solidFill>
                  <a:srgbClr val="000000"/>
                </a:solidFill>
                <a:latin typeface="Cambria"/>
              </a:rPr>
              <a:t>UrbanEvolu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Cambria"/>
              </a:rPr>
              <a:t>Le bonheur est VOTRE affair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Cambria"/>
              </a:rPr>
              <a:t>son organisation est NOTRE préoccupation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02040" y="6004080"/>
            <a:ext cx="40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Dié de Carita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UrbanEvolution.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DDC project 201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9144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3000" spc="-1" strike="noStrike">
                <a:solidFill>
                  <a:srgbClr val="ffffff"/>
                </a:solidFill>
                <a:latin typeface="Century Schoolbook"/>
              </a:rPr>
              <a:t>P</a:t>
            </a:r>
            <a:r>
              <a:rPr b="0" lang="fr-BE" sz="3600" spc="-1" strike="noStrike">
                <a:solidFill>
                  <a:srgbClr val="ffffff"/>
                </a:solidFill>
                <a:latin typeface="Century Schoolbook"/>
              </a:rPr>
              <a:t>ROJ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71640" y="1268280"/>
            <a:ext cx="7788240" cy="7430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Cambria"/>
              </a:rPr>
              <a:t>UrbanEvolution.be est un concept qui provient de 3 constats et qui vise 3 axes de solutions.</a:t>
            </a: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84360" y="2349360"/>
            <a:ext cx="5481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mbria"/>
              </a:rPr>
              <a:t>Trois constats ou facteurs observé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mbria"/>
              </a:rPr>
              <a:t>1) Les habitations sont très généralement trop énergivores. Agir est indispens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mbria"/>
              </a:rPr>
              <a:t>2) L’espace et l’environnement pourraient être mieux partagés entre les personnes en accentuant l’échange intergénérationnel sans promiscuité et en offrant des services adaptés et en combattant l’isolement 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mbria"/>
              </a:rPr>
              <a:t>3) La question financière doit être posée pour garantir les bons choix en fonction du profil des habitants &amp; le passage futur et réfléchi des moyens et des biens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971640" y="7316640"/>
            <a:ext cx="546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303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Cambria"/>
              </a:rPr>
              <a:t>3 constats 3 Solutions 1Concept = 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907920"/>
            <a:ext cx="9144000" cy="1800"/>
          </a:xfrm>
          <a:prstGeom prst="line">
            <a:avLst/>
          </a:prstGeom>
          <a:ln cap="sq" w="255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EE2064-7FBE-44C3-A223-8D8E612DF139}" type="slidenum">
              <a:rPr b="1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802040" y="6004080"/>
            <a:ext cx="40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Dié de Carita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UrbanEvolution.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DDC project 201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539640" y="0"/>
            <a:ext cx="822960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3000" spc="-1" strike="noStrike">
                <a:solidFill>
                  <a:srgbClr val="ffffff"/>
                </a:solidFill>
                <a:latin typeface="Century Schoolbook"/>
              </a:rPr>
              <a:t>PROJ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84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69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2000" spc="-1" strike="noStrike">
                <a:solidFill>
                  <a:srgbClr val="000000"/>
                </a:solidFill>
                <a:latin typeface="Cambria"/>
              </a:rPr>
              <a:t>     </a:t>
            </a:r>
            <a:r>
              <a:rPr b="1" lang="fr-BE" sz="2000" spc="-1" strike="noStrike">
                <a:solidFill>
                  <a:srgbClr val="000000"/>
                </a:solidFill>
                <a:latin typeface="Cambria"/>
              </a:rPr>
              <a:t>3 axes de solution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2880" indent="-269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dddddd"/>
              </a:buClr>
              <a:buSzPct val="70000"/>
              <a:buFont typeface="Wingdings" charset="2"/>
              <a:buChar char=""/>
              <a:tabLst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Cambria"/>
              </a:rPr>
              <a:t>1) Nous réalisons des investissements en tenant compte des nouvelles options énergétiques diversifiées comme le recommandent d’urgence les études européennes et le bon sens de tous les aîné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dddddd"/>
              </a:buClr>
              <a:buSzPct val="70000"/>
              <a:buFont typeface="Wingdings" charset="2"/>
              <a:buChar char=""/>
              <a:tabLst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Cambria"/>
              </a:rPr>
              <a:t>2) Nous révisons les lieux d’habitations en fonction des besoins réels des personnes. Optimalisons le bien-être et l’environnement, ensembl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buClr>
                <a:srgbClr val="dddddd"/>
              </a:buClr>
              <a:buSzPct val="70000"/>
              <a:buFont typeface="Wingdings" charset="2"/>
              <a:buChar char=""/>
              <a:tabLst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Cambria"/>
              </a:rPr>
              <a:t>3) Nous adaptons l’approche financière par de nouvelles formules favorisant la mixité intergénérationnelle, et nous engageons les familles dans un investissement temporel ou intemporel suivant les form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3031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3 constats 3 Solutions 1Concept = 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907920"/>
            <a:ext cx="9144000" cy="1800"/>
          </a:xfrm>
          <a:prstGeom prst="line">
            <a:avLst/>
          </a:prstGeom>
          <a:ln cap="sq" w="255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46D10F-3B5E-4E29-BFA1-BDCBC846E27D}" type="slidenum">
              <a:rPr b="1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802040" y="6004080"/>
            <a:ext cx="40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Dié de Carita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UrbanEvolution.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DDC project 201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468360" y="111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4400" spc="-1" strike="noStrike">
                <a:solidFill>
                  <a:srgbClr val="ffffff"/>
                </a:solidFill>
                <a:latin typeface="Calibri"/>
              </a:rPr>
              <a:t>P</a:t>
            </a:r>
            <a:r>
              <a:rPr b="0" lang="fr-BE" sz="3600" spc="-1" strike="noStrike">
                <a:solidFill>
                  <a:srgbClr val="ffffff"/>
                </a:solidFill>
                <a:latin typeface="Calibri"/>
              </a:rPr>
              <a:t>ROJ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84360" y="1317600"/>
            <a:ext cx="7788240" cy="38268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entury Schoolbook"/>
              </a:rPr>
              <a:t>P</a:t>
            </a:r>
            <a:r>
              <a:rPr b="1" lang="fr-FR" sz="1600" spc="-1" strike="noStrike">
                <a:solidFill>
                  <a:srgbClr val="ffffff"/>
                </a:solidFill>
                <a:latin typeface="Century Schoolbook"/>
              </a:rPr>
              <a:t>OURQUOI</a:t>
            </a:r>
            <a:r>
              <a:rPr b="1" lang="fr-FR" sz="2000" spc="-1" strike="noStrike">
                <a:solidFill>
                  <a:srgbClr val="ffffff"/>
                </a:solidFill>
                <a:latin typeface="Century Schoolbook"/>
              </a:rPr>
              <a:t> ? L’espace (hab.+ envir.) et l’organisation sociéta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258920" y="1700280"/>
            <a:ext cx="732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82600"/>
                <a:tab algn="l" pos="730080"/>
                <a:tab algn="l" pos="1179360"/>
                <a:tab algn="l" pos="1628640"/>
                <a:tab algn="l" pos="2077920"/>
                <a:tab algn="l" pos="2527200"/>
                <a:tab algn="l" pos="2976480"/>
                <a:tab algn="l" pos="3425760"/>
                <a:tab algn="l" pos="3875040"/>
                <a:tab algn="l" pos="4324320"/>
                <a:tab algn="l" pos="4773600"/>
                <a:tab algn="l" pos="5222880"/>
                <a:tab algn="l" pos="5672160"/>
                <a:tab algn="l" pos="6121440"/>
                <a:tab algn="l" pos="6570720"/>
                <a:tab algn="l" pos="7020000"/>
                <a:tab algn="l" pos="7469280"/>
                <a:tab algn="l" pos="7918560"/>
                <a:tab algn="l" pos="8367840"/>
                <a:tab algn="l" pos="88171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libri"/>
              </a:rPr>
              <a:t>Environnement ETUDIE par des passionnés, jardins, écologie, économie et en cherchant le côté « cocoon » dans toute habit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82600"/>
                <a:tab algn="l" pos="730080"/>
                <a:tab algn="l" pos="1179360"/>
                <a:tab algn="l" pos="1628640"/>
                <a:tab algn="l" pos="2077920"/>
                <a:tab algn="l" pos="2527200"/>
                <a:tab algn="l" pos="2976480"/>
                <a:tab algn="l" pos="3425760"/>
                <a:tab algn="l" pos="3875040"/>
                <a:tab algn="l" pos="4324320"/>
                <a:tab algn="l" pos="4773600"/>
                <a:tab algn="l" pos="5222880"/>
                <a:tab algn="l" pos="5672160"/>
                <a:tab algn="l" pos="6121440"/>
                <a:tab algn="l" pos="6570720"/>
                <a:tab algn="l" pos="7020000"/>
                <a:tab algn="l" pos="7469280"/>
                <a:tab algn="l" pos="7918560"/>
                <a:tab algn="l" pos="8367840"/>
                <a:tab algn="l" pos="88171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libri"/>
              </a:rPr>
              <a:t>Stabilité pour éviter un changement de vie trop rad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82600"/>
                <a:tab algn="l" pos="730080"/>
                <a:tab algn="l" pos="1179360"/>
                <a:tab algn="l" pos="1628640"/>
                <a:tab algn="l" pos="2077920"/>
                <a:tab algn="l" pos="2527200"/>
                <a:tab algn="l" pos="2976480"/>
                <a:tab algn="l" pos="3425760"/>
                <a:tab algn="l" pos="3875040"/>
                <a:tab algn="l" pos="4324320"/>
                <a:tab algn="l" pos="4773600"/>
                <a:tab algn="l" pos="5222880"/>
                <a:tab algn="l" pos="5672160"/>
                <a:tab algn="l" pos="6121440"/>
                <a:tab algn="l" pos="6570720"/>
                <a:tab algn="l" pos="7020000"/>
                <a:tab algn="l" pos="7469280"/>
                <a:tab algn="l" pos="7918560"/>
                <a:tab algn="l" pos="8367840"/>
                <a:tab algn="l" pos="88171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libri"/>
              </a:rPr>
              <a:t>Côté social par le partage et le dialogue, bénévolat et activités indépenda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2600" indent="-2826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82600"/>
                <a:tab algn="l" pos="730080"/>
                <a:tab algn="l" pos="1179360"/>
                <a:tab algn="l" pos="1628640"/>
                <a:tab algn="l" pos="2077920"/>
                <a:tab algn="l" pos="2527200"/>
                <a:tab algn="l" pos="2976480"/>
                <a:tab algn="l" pos="3425760"/>
                <a:tab algn="l" pos="3875040"/>
                <a:tab algn="l" pos="4324320"/>
                <a:tab algn="l" pos="4773600"/>
                <a:tab algn="l" pos="5222880"/>
                <a:tab algn="l" pos="5672160"/>
                <a:tab algn="l" pos="6121440"/>
                <a:tab algn="l" pos="6570720"/>
                <a:tab algn="l" pos="7020000"/>
                <a:tab algn="l" pos="7469280"/>
                <a:tab algn="l" pos="7918560"/>
                <a:tab algn="l" pos="8367840"/>
                <a:tab algn="l" pos="88171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libri"/>
              </a:rPr>
              <a:t>Sentiment de sécurité garanti par une juste promiscuité dans un ECO quartier ou une ECO propriét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2600">
              <a:lnSpc>
                <a:spcPct val="100000"/>
              </a:lnSpc>
              <a:tabLst>
                <a:tab algn="l" pos="0"/>
                <a:tab algn="l" pos="282600"/>
                <a:tab algn="l" pos="730080"/>
                <a:tab algn="l" pos="1179360"/>
                <a:tab algn="l" pos="1628640"/>
                <a:tab algn="l" pos="2077920"/>
                <a:tab algn="l" pos="2527200"/>
                <a:tab algn="l" pos="2976480"/>
                <a:tab algn="l" pos="3425760"/>
                <a:tab algn="l" pos="3875040"/>
                <a:tab algn="l" pos="4324320"/>
                <a:tab algn="l" pos="4773600"/>
                <a:tab algn="l" pos="5222880"/>
                <a:tab algn="l" pos="5672160"/>
                <a:tab algn="l" pos="6121440"/>
                <a:tab algn="l" pos="6570720"/>
                <a:tab algn="l" pos="7020000"/>
                <a:tab algn="l" pos="7469280"/>
                <a:tab algn="l" pos="7918560"/>
                <a:tab algn="l" pos="8367840"/>
                <a:tab algn="l" pos="8817120"/>
                <a:tab algn="l" pos="9266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924360" y="4724280"/>
            <a:ext cx="1584360" cy="72072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dddddd"/>
          </a:solidFill>
          <a:ln cap="sq" w="25560">
            <a:solidFill>
              <a:srgbClr val="a2a2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564000" y="3645000"/>
            <a:ext cx="1800000" cy="10555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1476360" y="4869000"/>
            <a:ext cx="1933560" cy="140940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5651640" y="4292640"/>
            <a:ext cx="1944720" cy="1079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303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Cambria"/>
              </a:rPr>
              <a:t>Gérer le changement et l’environne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907920"/>
            <a:ext cx="9144000" cy="1800"/>
          </a:xfrm>
          <a:prstGeom prst="line">
            <a:avLst/>
          </a:prstGeom>
          <a:ln cap="sq" w="255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392219-85E8-4A1A-90F5-BF96806F03FE}" type="slidenum">
              <a:rPr b="1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802040" y="6004080"/>
            <a:ext cx="40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Dié de Carita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UrbanEvolution.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DDC project 201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900000" y="1268280"/>
            <a:ext cx="2448000" cy="1656000"/>
          </a:xfrm>
          <a:prstGeom prst="rect">
            <a:avLst/>
          </a:prstGeom>
          <a:solidFill>
            <a:srgbClr val="969696"/>
          </a:solidFill>
          <a:ln cap="sq" w="25560">
            <a:solidFill>
              <a:srgbClr val="6d6d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Century Schoolbook"/>
              </a:rPr>
              <a:t>Dynamiques et créati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300720" y="1239840"/>
            <a:ext cx="2448000" cy="1657440"/>
          </a:xfrm>
          <a:prstGeom prst="rect">
            <a:avLst/>
          </a:prstGeom>
          <a:solidFill>
            <a:srgbClr val="4d4d4d"/>
          </a:solidFill>
          <a:ln cap="sq" w="25560">
            <a:solidFill>
              <a:srgbClr val="3636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Century Schoolbook"/>
              </a:rPr>
              <a:t>Patience, ouverture et </a:t>
            </a:r>
            <a:r>
              <a:rPr b="0" lang="fr-BE" sz="2400" spc="-1" strike="noStrike">
                <a:solidFill>
                  <a:srgbClr val="ffffff"/>
                </a:solidFill>
                <a:latin typeface="Century Schoolbook"/>
              </a:rPr>
              <a:t>multicultura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635280" y="3022560"/>
            <a:ext cx="2449440" cy="1655640"/>
          </a:xfrm>
          <a:prstGeom prst="rect">
            <a:avLst/>
          </a:prstGeom>
          <a:solidFill>
            <a:srgbClr val="b2b2b2"/>
          </a:solidFill>
          <a:ln cap="sq" w="25560">
            <a:solidFill>
              <a:srgbClr val="82828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Century Schoolbook"/>
              </a:rPr>
              <a:t>Soucieux de l’avenir des enfants, parents et grands-par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900000" y="4797360"/>
            <a:ext cx="2448000" cy="1656000"/>
          </a:xfrm>
          <a:prstGeom prst="rect">
            <a:avLst/>
          </a:prstGeom>
          <a:solidFill>
            <a:srgbClr val="4d4d4d"/>
          </a:solidFill>
          <a:ln cap="sq" w="25560">
            <a:solidFill>
              <a:srgbClr val="3636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Century Schoolbook"/>
              </a:rPr>
              <a:t>Expériences de leadership et de mise en place de proj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300720" y="4768920"/>
            <a:ext cx="2448000" cy="1655640"/>
          </a:xfrm>
          <a:prstGeom prst="rect">
            <a:avLst/>
          </a:prstGeom>
          <a:solidFill>
            <a:srgbClr val="969696"/>
          </a:solidFill>
          <a:ln cap="sq" w="25560">
            <a:solidFill>
              <a:srgbClr val="6d6d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400" spc="-1" strike="noStrike">
                <a:solidFill>
                  <a:srgbClr val="ffffff"/>
                </a:solidFill>
                <a:latin typeface="Century Schoolbook"/>
              </a:rPr>
              <a:t>Responsables et impliqu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rcRect l="0" t="22391" r="0" b="0"/>
          <a:stretch/>
        </p:blipFill>
        <p:spPr>
          <a:xfrm>
            <a:off x="3635280" y="1268280"/>
            <a:ext cx="2448000" cy="1656000"/>
          </a:xfrm>
          <a:prstGeom prst="rect">
            <a:avLst/>
          </a:prstGeom>
          <a:ln w="0">
            <a:noFill/>
          </a:ln>
        </p:spPr>
      </p:pic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895320" y="3017880"/>
            <a:ext cx="2457360" cy="164628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rcRect l="0" t="1553" r="0" b="8478"/>
          <a:stretch/>
        </p:blipFill>
        <p:spPr>
          <a:xfrm>
            <a:off x="3819600" y="4800600"/>
            <a:ext cx="2081160" cy="165744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6291360" y="2992320"/>
            <a:ext cx="2462040" cy="167184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0" y="303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Cambria"/>
              </a:rPr>
              <a:t>Responsabilité sociétale et Développement dur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0" y="907920"/>
            <a:ext cx="9144000" cy="1800"/>
          </a:xfrm>
          <a:prstGeom prst="line">
            <a:avLst/>
          </a:prstGeom>
          <a:ln cap="sq" w="255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907A2C-478D-4477-A89E-6A42FBA37AB6}" type="slidenum">
              <a:rPr b="1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802040" y="6004080"/>
            <a:ext cx="40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Dié de Carita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UrbanEvolution.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DDC project 201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Century Schoolbook"/>
              </a:rPr>
              <a:t>LES ESPACES VARIENT EN FONCTION DES BESOINS DES HABITANTS, DE LEURS EXIGENCES ET OCCUPATIONS. SEULE CONSTANTE: TROUVER LE BIEN-ÊTRE DANS LA SÉCURITÉ D’ÊTRE CHEZ SOI, ASSISTÉ SI NÉCESSAIRE.</a:t>
            </a:r>
            <a:r>
              <a:rPr b="0" lang="fr-BE" sz="3600" spc="-1" strike="noStrike">
                <a:solidFill>
                  <a:srgbClr val="000000"/>
                </a:solidFill>
                <a:latin typeface="Century Schoolboo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468360" y="1484280"/>
            <a:ext cx="2543040" cy="180036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3203640" y="1844640"/>
            <a:ext cx="2652480" cy="164772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3"/>
          <a:stretch/>
        </p:blipFill>
        <p:spPr>
          <a:xfrm>
            <a:off x="5940360" y="1989000"/>
            <a:ext cx="2486160" cy="183852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4"/>
          <a:stretch/>
        </p:blipFill>
        <p:spPr>
          <a:xfrm>
            <a:off x="324000" y="3429000"/>
            <a:ext cx="2809800" cy="162864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5"/>
          <a:stretch/>
        </p:blipFill>
        <p:spPr>
          <a:xfrm>
            <a:off x="5940360" y="386064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6"/>
          <a:stretch/>
        </p:blipFill>
        <p:spPr>
          <a:xfrm>
            <a:off x="3276720" y="3500280"/>
            <a:ext cx="2447640" cy="13716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7"/>
          <a:stretch/>
        </p:blipFill>
        <p:spPr>
          <a:xfrm>
            <a:off x="3492360" y="4941720"/>
            <a:ext cx="2087640" cy="156708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67431A-F3C3-48DD-919C-C4F2121AF688}" type="slidenum">
              <a:rPr b="1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802040" y="6004080"/>
            <a:ext cx="40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Dié de Carita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UrbanEvolution.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DDC project 201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1547640" y="2421000"/>
            <a:ext cx="75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Cambria"/>
              </a:rPr>
              <a:t>Merci pour votre atten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26C44B-C825-4F12-A1C9-662C4958E6C0}" type="slidenum">
              <a:rPr b="1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802040" y="6004080"/>
            <a:ext cx="40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Dié de Carita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UrbanEvolution.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DDC project 201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152280" y="2560680"/>
            <a:ext cx="4157640" cy="708336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3191040" cy="244944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3"/>
          <a:stretch/>
        </p:blipFill>
        <p:spPr>
          <a:xfrm>
            <a:off x="5940360" y="0"/>
            <a:ext cx="1714680" cy="128592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4"/>
          <a:stretch/>
        </p:blipFill>
        <p:spPr>
          <a:xfrm>
            <a:off x="3419640" y="189000"/>
            <a:ext cx="2466720" cy="184788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5"/>
          <a:stretch/>
        </p:blipFill>
        <p:spPr>
          <a:xfrm>
            <a:off x="7524720" y="2635200"/>
            <a:ext cx="1476360" cy="11034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/>
            </a:outerShdw>
          </a:effectLst>
        </p:spPr>
      </p:pic>
      <p:pic>
        <p:nvPicPr>
          <p:cNvPr id="272" name="" descr=""/>
          <p:cNvPicPr/>
          <p:nvPr/>
        </p:nvPicPr>
        <p:blipFill>
          <a:blip r:embed="rId6"/>
          <a:stretch/>
        </p:blipFill>
        <p:spPr>
          <a:xfrm>
            <a:off x="7740720" y="260280"/>
            <a:ext cx="1238040" cy="165744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7"/>
          <a:stretch/>
        </p:blipFill>
        <p:spPr>
          <a:xfrm>
            <a:off x="6227640" y="1484280"/>
            <a:ext cx="1441440" cy="107964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713521-5F43-4C68-9F4F-BE11FBDF6A71}" type="slidenum">
              <a:rPr b="1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20880000">
            <a:off x="4354560" y="429408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UrbanEv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Le bonheur est VOTRE affair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son organisation est NOTRE préoccupation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303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Cambria"/>
              </a:rPr>
              <a:t>PLAN DE LA PRÉS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907920"/>
            <a:ext cx="9144000" cy="1800"/>
          </a:xfrm>
          <a:prstGeom prst="line">
            <a:avLst/>
          </a:prstGeom>
          <a:ln cap="sq" w="255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1413000"/>
            <a:ext cx="4824360" cy="50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fr-BE" sz="2000" spc="-1" strike="noStrike">
                <a:solidFill>
                  <a:srgbClr val="000000"/>
                </a:solidFill>
                <a:latin typeface="Cambria"/>
              </a:rPr>
              <a:t>Présentation UrbanEv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Cambria"/>
                <a:ea typeface="Microsoft YaHei"/>
              </a:rPr>
              <a:t> </a:t>
            </a:r>
            <a:r>
              <a:rPr b="0" lang="fr-BE" sz="2000" spc="-1" strike="noStrike">
                <a:solidFill>
                  <a:srgbClr val="000000"/>
                </a:solidFill>
                <a:latin typeface="Cambria"/>
                <a:ea typeface="Microsoft YaHei"/>
              </a:rPr>
              <a:t>Quoi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Cambria"/>
                <a:ea typeface="Microsoft YaHei"/>
              </a:rPr>
              <a:t> </a:t>
            </a:r>
            <a:r>
              <a:rPr b="0" lang="fr-BE" sz="2000" spc="-1" strike="noStrike">
                <a:solidFill>
                  <a:srgbClr val="000000"/>
                </a:solidFill>
                <a:latin typeface="Cambria"/>
                <a:ea typeface="Microsoft YaHei"/>
              </a:rPr>
              <a:t>Qui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Cambria"/>
                <a:ea typeface="Microsoft YaHei"/>
              </a:rPr>
              <a:t> </a:t>
            </a:r>
            <a:r>
              <a:rPr b="0" lang="fr-BE" sz="2000" spc="-1" strike="noStrike">
                <a:solidFill>
                  <a:srgbClr val="000000"/>
                </a:solidFill>
                <a:latin typeface="Cambria"/>
                <a:ea typeface="Microsoft YaHei"/>
              </a:rPr>
              <a:t>Pourquoi 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Cambria"/>
                <a:ea typeface="Microsoft YaHei"/>
              </a:rPr>
              <a:t> </a:t>
            </a:r>
            <a:r>
              <a:rPr b="0" lang="fr-BE" sz="2000" spc="-1" strike="noStrike">
                <a:solidFill>
                  <a:srgbClr val="000000"/>
                </a:solidFill>
                <a:latin typeface="Cambria"/>
                <a:ea typeface="Microsoft YaHei"/>
              </a:rPr>
              <a:t>Comment 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Cambria"/>
                <a:ea typeface="Microsoft YaHei"/>
              </a:rPr>
              <a:t> </a:t>
            </a:r>
            <a:r>
              <a:rPr b="0" lang="fr-BE" sz="2000" spc="-1" strike="noStrike">
                <a:solidFill>
                  <a:srgbClr val="000000"/>
                </a:solidFill>
                <a:latin typeface="Cambria"/>
                <a:ea typeface="Microsoft YaHei"/>
              </a:rPr>
              <a:t>Quand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BE" sz="2000" spc="-1" strike="noStrike">
                <a:solidFill>
                  <a:srgbClr val="000000"/>
                </a:solidFill>
                <a:latin typeface="Cambria"/>
              </a:rPr>
              <a:t>PRINCIPES 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fr-BE" sz="2000" spc="-1" strike="noStrike">
                <a:solidFill>
                  <a:srgbClr val="000000"/>
                </a:solidFill>
                <a:latin typeface="Cambria"/>
              </a:rPr>
              <a:t>Premier proj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0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fr-BE" sz="2000" spc="-1" strike="noStrike">
                <a:solidFill>
                  <a:srgbClr val="000000"/>
                </a:solidFill>
                <a:latin typeface="Cambria"/>
              </a:rPr>
              <a:t>Besoins financ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4B300A-134F-4E22-88E8-7B619116802E}" type="slidenum">
              <a:rPr b="1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02040" y="6004080"/>
            <a:ext cx="40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Dié de Carita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UrbanEvolution.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DDC project 201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86200" y="2914560"/>
            <a:ext cx="137160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886200" y="2914560"/>
            <a:ext cx="137160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303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Cambria"/>
              </a:rPr>
              <a:t>PRÉSENTATION URBAN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907920"/>
            <a:ext cx="9144000" cy="1800"/>
          </a:xfrm>
          <a:prstGeom prst="line">
            <a:avLst/>
          </a:prstGeom>
          <a:ln cap="sq" w="255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6D4259-53FA-49FF-B960-1931B015AB41}" type="slidenum">
              <a:rPr b="1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-6480" y="1109520"/>
            <a:ext cx="9156960" cy="52848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4802040" y="6004080"/>
            <a:ext cx="40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Dié de Carita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UrbanEvolution.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DDC project 201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303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Cambria"/>
              </a:rPr>
              <a:t>PRÉSENTATION URBAN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907920"/>
            <a:ext cx="9144000" cy="1800"/>
          </a:xfrm>
          <a:prstGeom prst="line">
            <a:avLst/>
          </a:prstGeom>
          <a:ln cap="sq" w="255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-981000" y="1249200"/>
            <a:ext cx="5559480" cy="356724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3D07C5-FCEE-4AC0-A5EC-552E260A70DB}" type="slidenum">
              <a:rPr b="1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851280" y="1916280"/>
            <a:ext cx="4753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Cambria"/>
              </a:rPr>
              <a:t>Une VISION générale à M&amp;LT sur l'habitat de standing</a:t>
            </a: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: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Evolution des </a:t>
            </a:r>
            <a:r>
              <a:rPr b="0" lang="fr-BE" sz="1800" spc="-1" strike="noStrike" u="sng">
                <a:solidFill>
                  <a:srgbClr val="000000"/>
                </a:solidFill>
                <a:uFillTx/>
                <a:latin typeface="Cambria"/>
              </a:rPr>
              <a:t>besoins </a:t>
            </a: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(en terme d’espaces, de sports, loisirs, activité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 u="sng">
                <a:solidFill>
                  <a:srgbClr val="000000"/>
                </a:solidFill>
                <a:uFillTx/>
                <a:latin typeface="Cambria"/>
              </a:rPr>
              <a:t>Renouveau</a:t>
            </a: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 des types d'habitats pour les 50-80 ans, de type plus compact et multi- générationnel, avec une attention aux choix ECO (écologique et économi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Evolution de la </a:t>
            </a:r>
            <a:r>
              <a:rPr b="0" lang="fr-BE" sz="1800" spc="-1" strike="noStrike" u="sng">
                <a:solidFill>
                  <a:srgbClr val="000000"/>
                </a:solidFill>
                <a:uFillTx/>
                <a:latin typeface="Cambria"/>
              </a:rPr>
              <a:t>mobilité (</a:t>
            </a: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en terme de besoins, capacité fin.&amp; Phys., temps et lieu)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&gt;2 voire 3 résidences à différents endroit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en fonction des périodes de l'anné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la mobilité (et Home work) étant de plus en plus aisée, même pour les "actifs"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02040" y="6004080"/>
            <a:ext cx="40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Dié de Carita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UrbanEvolution.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DDC project 201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303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Cambria"/>
              </a:rPr>
              <a:t>PRÉSENTATION URBAN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907920"/>
            <a:ext cx="9144000" cy="1800"/>
          </a:xfrm>
          <a:prstGeom prst="line">
            <a:avLst/>
          </a:prstGeom>
          <a:ln cap="sq" w="255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-981000" y="1249200"/>
            <a:ext cx="5559480" cy="356724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A93546-FDC3-4794-B2EA-85B7F4A77A11}" type="slidenum">
              <a:rPr b="1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51280" y="1916280"/>
            <a:ext cx="4753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Cambria"/>
              </a:rPr>
              <a:t>Le MARCHE</a:t>
            </a: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Une génération « babyboomer » consciente que vivre dans un espace trop grand, énergivore, sans soleil et sans penser à l’avenir proche de ses enfants est une des causes de la crise. Investir dans l’aveni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Une réflexion et des sol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Un résultat avec rendement sur investissement de 4 à 6 % qui serait digne du secteur en place ° avec des Investisseurs-Locataires exigeants, mais conscient que le bonheur organisé est à un prix qu'ils veulent bien pay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 </a:t>
            </a: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° voir études européennes et articles L'Echo Mon argent sur les Sicaf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802040" y="6004080"/>
            <a:ext cx="40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Dié de Carita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UrbanEvolution.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DDC project 201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303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Cambria"/>
              </a:rPr>
              <a:t>PRÉSENTATION URBAN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907920"/>
            <a:ext cx="9144000" cy="1800"/>
          </a:xfrm>
          <a:prstGeom prst="line">
            <a:avLst/>
          </a:prstGeom>
          <a:ln cap="sq" w="255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-981000" y="1249200"/>
            <a:ext cx="5559480" cy="356724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1964E3-864B-42CE-8ACD-9E01C73E3E16}" type="slidenum">
              <a:rPr b="1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851280" y="1916280"/>
            <a:ext cx="475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Cambria"/>
              </a:rPr>
              <a:t>La Mise en place de solutions financières</a:t>
            </a: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&gt; Rénovation &amp; constructions nouvelles adaptées. Services liés et à la car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&gt; Emission de Certificats immobiliers et Obligations, convertibles éventuellement en sicafi, en fonction des clientèles visées, étapes par étap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02040" y="6004080"/>
            <a:ext cx="40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Dié de Carita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UrbanEvolution.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DDC project 201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303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Cambria"/>
              </a:rPr>
              <a:t>PRÉSENTATION URBAN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907920"/>
            <a:ext cx="9144000" cy="1800"/>
          </a:xfrm>
          <a:prstGeom prst="line">
            <a:avLst/>
          </a:prstGeom>
          <a:ln cap="sq" w="255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-981000" y="1249200"/>
            <a:ext cx="5559480" cy="356724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190991-BBD1-453E-89CA-BCC631DE8AA3}" type="slidenum">
              <a:rPr b="1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51280" y="1916280"/>
            <a:ext cx="4753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BE" sz="1800" spc="-1" strike="noStrike">
                <a:solidFill>
                  <a:srgbClr val="000000"/>
                </a:solidFill>
                <a:latin typeface="Cambria"/>
              </a:rPr>
              <a:t>La Conjonction de compétences et volonté de différents Acteurs</a:t>
            </a: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 en Belgique(Opérateurs ECOMANAGERS, Architectes, Entrepreneurs, Constructeurs, MO, Financie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Et d'acteurs </a:t>
            </a:r>
            <a:r>
              <a:rPr b="1" lang="fr-BE" sz="1800" spc="-1" strike="noStrike" u="sng">
                <a:solidFill>
                  <a:srgbClr val="000000"/>
                </a:solidFill>
                <a:uFillTx/>
                <a:latin typeface="Cambria"/>
              </a:rPr>
              <a:t>européens</a:t>
            </a: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 (Pays de l'est, construction durables  Eco-qualité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02040" y="6004080"/>
            <a:ext cx="40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Dié de Carita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UrbanEvolution.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DDC project 201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303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Cambria"/>
              </a:rPr>
              <a:t>PRÉSENTATION URBAN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907920"/>
            <a:ext cx="9144000" cy="1800"/>
          </a:xfrm>
          <a:prstGeom prst="line">
            <a:avLst/>
          </a:prstGeom>
          <a:ln cap="sq" w="255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-981000" y="1249200"/>
            <a:ext cx="5559480" cy="356724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F7DCF0-AA0F-45AE-BE8E-1296EF79EC5D}" type="slidenum">
              <a:rPr b="1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51280" y="2421000"/>
            <a:ext cx="4753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Dès l'établissement des principaux acteurs choisis pour leurs compétences, leurs ambitions, leurs capacité à définir et à remplir le rôle qui leur revient, défini avec le Project Builder, MO, DDC 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802040" y="6004080"/>
            <a:ext cx="40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Dié de Carita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UrbanEvolution.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DDC project 201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260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400" spc="-1" strike="noStrike">
                <a:solidFill>
                  <a:srgbClr val="000000"/>
                </a:solidFill>
                <a:latin typeface="Cambria"/>
              </a:rPr>
              <a:t>PRINCIPES 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907920"/>
            <a:ext cx="9144000" cy="1800"/>
          </a:xfrm>
          <a:prstGeom prst="line">
            <a:avLst/>
          </a:prstGeom>
          <a:ln cap="sq" w="255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50FBE1-85E5-4971-9741-F670A94AD248}" type="slidenum">
              <a:rPr b="1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908000" y="1700280"/>
            <a:ext cx="619308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39840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 u="sng">
                <a:solidFill>
                  <a:srgbClr val="000000"/>
                </a:solidFill>
                <a:uFillTx/>
                <a:latin typeface="Arial"/>
              </a:rPr>
              <a:t>Principes de fonctionnement du concept UrbanEvolution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Arial"/>
              </a:rPr>
              <a:t>A. Les projets sont de </a:t>
            </a:r>
            <a:r>
              <a:rPr b="0" lang="fr-BE" sz="1400" spc="-1" strike="noStrike" u="sng">
                <a:solidFill>
                  <a:srgbClr val="000000"/>
                </a:solidFill>
                <a:uFillTx/>
                <a:latin typeface="Arial"/>
              </a:rPr>
              <a:t>tailles différentes</a:t>
            </a:r>
            <a:r>
              <a:rPr b="0" lang="fr-BE" sz="1400" spc="-1" strike="noStrike">
                <a:solidFill>
                  <a:srgbClr val="000000"/>
                </a:solidFill>
                <a:latin typeface="Arial"/>
              </a:rPr>
              <a:t>, en fonction des opportunités de regroupement d’habitations et de services de proximité, le tout obligatoirement sous l’égide du princip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BE" sz="1400" spc="-1" strike="noStrike">
                <a:solidFill>
                  <a:srgbClr val="000000"/>
                </a:solidFill>
                <a:latin typeface="Arial"/>
              </a:rPr>
              <a:t>1 ECO-quartier(propriété), 1 propriétaire-organisateur Multiples Obligataires-Locataires,  Multiples services (Entretiens-Sports-loisirs-cattering-salles communes-bénévolat responsabl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Arial"/>
              </a:rPr>
              <a:t>B. Les NOUVEAUX Obligataires peuvent </a:t>
            </a:r>
            <a:r>
              <a:rPr b="0" lang="fr-BE" sz="1400" spc="-1" strike="noStrike" u="sng">
                <a:solidFill>
                  <a:srgbClr val="000000"/>
                </a:solidFill>
                <a:uFillTx/>
                <a:latin typeface="Arial"/>
              </a:rPr>
              <a:t>habiter prioritairement un ECO-Q</a:t>
            </a:r>
            <a:r>
              <a:rPr b="0" lang="fr-BE" sz="1400" spc="-1" strike="noStrike">
                <a:solidFill>
                  <a:srgbClr val="000000"/>
                </a:solidFill>
                <a:latin typeface="Arial"/>
              </a:rPr>
              <a:t> dans l’attente de la rénovation de « leur » ECO-Q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Arial"/>
              </a:rPr>
              <a:t>C. Le RESPECT des aspirations est analysé en combattant l’ISOLEMEN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Arial"/>
              </a:rPr>
              <a:t>Les personnes vivant seules ou sans enfants souhaitent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339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0" lang="fr-BE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Continuer à vivre proche d’amis ou d’espaces de vie partagés aussi avec d’autres génération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339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0" lang="fr-BE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Rester indépendants tout en développant un contact social et un esprit d’entraid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339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0" lang="fr-BE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Exercer leurs loisirs avec des personnes aux mêmes affinités et activité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97040" indent="-339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 </a:t>
            </a:r>
            <a:r>
              <a:rPr b="0" lang="fr-BE" sz="1400" spc="-1" strike="noStrike">
                <a:solidFill>
                  <a:srgbClr val="000000"/>
                </a:solidFill>
                <a:latin typeface="Arial"/>
                <a:ea typeface="Microsoft YaHei"/>
              </a:rPr>
              <a:t>Garder la passion de vivre et de partager connaissances, loisirs, esprit sportif et philosophique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802040" y="6004080"/>
            <a:ext cx="40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Dié de Carita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UrbanEvolution.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800" spc="-1" strike="noStrike">
                <a:solidFill>
                  <a:srgbClr val="000000"/>
                </a:solidFill>
                <a:latin typeface="Cambria"/>
              </a:rPr>
              <a:t>DDC project 2015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6T14:44:53Z</dcterms:created>
  <dc:creator>Ysa</dc:creator>
  <dc:description/>
  <dc:language>en-US</dc:language>
  <cp:lastModifiedBy/>
  <dcterms:modified xsi:type="dcterms:W3CDTF">2015-02-23T11:16:28Z</dcterms:modified>
  <cp:revision>108</cp:revision>
  <dc:subject/>
  <dc:title>Equip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ReviewCycleID">
    <vt:r8>565095883</vt:r8>
  </property>
  <property fmtid="{D5CDD505-2E9C-101B-9397-08002B2CF9AE}" pid="3" name="_ReviewingToolsShownOnce">
    <vt:lpwstr/>
  </property>
</Properties>
</file>